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BEAA-57CB-467F-B19F-107BE3AC6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3F69-4FF1-4C71-A137-A9F582C591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D05A-6921-477C-AB11-CC19CE4364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6F81-CC58-4D23-8118-FACB9F88AE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6EE7-17F6-4619-85C5-2E2729A005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705C-F389-4AE3-BCEF-DE8C4026AF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A35C-1D78-4FC6-8DF9-31AA1DB907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B4E2-B9CB-42F9-BE7A-67FEE69BCB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3CCC-C4A5-4AA8-8C8F-E2530EBBCE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7AE-5F4A-437E-A85D-7C80CE1F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C85-9091-4BF9-AA18-46F41E53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C48-6B8B-4188-B9FA-0B7E556B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250-5A97-4408-9770-0E71E683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5073-F55A-45CA-8014-4B71F88F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B935-5B7C-407F-B004-CE5424E0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E35D-6514-4C3B-B32E-5AADF142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8840-B78D-40A1-8BA6-FFA7BFCE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07D6-DDEC-4C40-8670-AEAA34C2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97C6-9D06-48FD-A18C-7580F4D1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9B7C-3082-496A-B068-42AF1207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55A-BC58-430E-B17D-45AE0209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FEEC-5EF3-4F09-9F39-FEB18ECC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EE16-72EE-4195-8C68-E89C5C90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856B-4420-4E6D-B5CD-814B8A76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C0D4-CF5C-4194-BC56-8E7834C7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BF03-4981-4D26-8B29-CAFB8412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DF702-6E46-4832-AE21-17E82276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57061-4E38-4382-BF79-412847E1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CC27-D461-4842-90BE-E1148021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A6F8-F47C-407B-B1DB-D9EA4A94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0A3B-C41B-4605-B82B-8CB5CD39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DE0-05AC-422B-BC84-3F978425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FF819-5B47-4C04-9C3E-8AB0C6CB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9A3AC-99C2-4CDB-AAF3-16B59125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C14E-7CEE-4632-B3EF-072B2462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F48F0-D764-4D03-8546-9057BF8C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30BF-52D5-488E-B5B2-EF4A4C6C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CEC79-1760-43C0-B1EB-CD534FC7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36B6A-FAA2-45EF-9A78-67B904FF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C6C7A-3037-4CF5-8853-BBEEB63C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916D0-BC1B-4C42-B1C9-0B97FCDA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069A5-AFFC-4A51-9648-2A2ABA7A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BE4-2294-43FD-A55C-85C174DD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1E6BF-7764-49A7-AFFC-64D907A3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E27A2-2C10-4FCA-BA30-ABBB8411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77CC5-B489-46E0-9CF5-3C6651AC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67B3A-74CC-4DBE-8384-D6DF6F11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047BD-DF83-4CD1-96EA-F9CFCA70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264D3-7414-4D91-B405-1932EA1A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D2CAB-63DC-4019-AC30-F1B72F5F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756C0-642C-444D-8A2C-86128D8C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D9522-77E7-4BD1-BB39-949B128B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AD4DF-375A-476A-9369-1362C191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3B4-E5AC-4523-981F-2C5F2C36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EF9C7-4CE8-4540-85FE-609D4A19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D38D8-133A-4DA0-AD78-30853CAA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8B5EB-9BD8-4B71-A616-3E828A41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CC404-46F0-41BA-9C1C-705AD129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E3AD3-EE05-4DF7-8D57-17117C22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DBD71-AE15-4236-A59E-D4192570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97031-2489-4BA6-A3F1-0C732E75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94375-2284-4857-9C16-1EADD627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68175-144C-4E7C-9CA7-25C94B44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49FCE-F611-4A91-8137-90F4BC97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65F-6D14-41F9-A5DC-C8413B46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98CE0-B884-4BFF-9D1F-DD0564E0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CF611-9AFB-476A-AC3B-1AA8837F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B6E44-5FB6-4234-BCA1-7F25A511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820EF-46F8-4565-9CF7-056E1E61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86167-F3F9-4B52-9D82-B376660C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BC42A-913F-47FD-91A1-64181C0A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0DC8A-90F1-40FC-8B20-DF4C100D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2CE7C-AAD8-43DD-9362-1780B470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A8436-2B38-43BB-963E-6F533CAF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E5E2E-80E3-4944-BC28-82B7D9BD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219-3865-4240-85D9-33155DF3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50FBA-1EBB-4725-8251-4E3BCBCB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E48A0-3097-4CDF-93B9-CF8E3DF9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FD7ED-620E-4AEB-90CF-8719E0BB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CD720-9698-4708-820E-F4632E8C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B38DE-147F-4612-9A6F-007108C9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E5D62-E42C-4C08-BF48-9DEBD5DA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80B09-B6CF-4A9D-B283-5A0F76F4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93EA5-C77F-417F-8D9B-896970C8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26D83-92A3-4F4E-849D-D8F36A52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55A42-21F0-4A15-ADFE-75F62BC1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55A9-3740-4C76-B8C1-355E0083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3890E-14CF-44D5-85E0-02526F36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E76BF-C4E8-4063-BCD0-6ACA1F07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4BEBB-C708-43D2-9806-F7B58924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03FD4-2D30-45D4-A2B9-9F5FBE45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9DAF2-008D-4861-8EDC-06EF2767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12C-1D31-4B2D-8E07-4579A83E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FEE8-B02C-4221-8E2F-5BA01E1F8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313D-B369-481D-88A6-8C5675C0F46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3823-82C7-4012-A6C4-F0488803F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0EC4-042C-411B-9332-E3142C74C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A793-5741-42F0-87C0-5DC8A005B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81E2-3BC0-4F89-A19D-BF2AA7D3F6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F8A6-4EEB-46E4-9571-DF7834D454AD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hyperlink" Target="http://webquest.org/index.php" TargetMode="External"/><Relationship Id="rId8" Type="http://schemas.openxmlformats.org/officeDocument/2006/relationships/image" Target="../media/image1.png"/><Relationship Id="rId9" Type="http://schemas.openxmlformats.org/officeDocument/2006/relationships/hyperlink" Target="http://theragblog.blogspot.com/2009/01/american-public-opinion-bucks-israeli.html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image" Target="../media/image7.png"/><Relationship Id="rId9" Type="http://schemas.openxmlformats.org/officeDocument/2006/relationships/slide" Target="slide2.xml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slide" Target="slide5.xml"/><Relationship Id="rId13" Type="http://schemas.openxmlformats.org/officeDocument/2006/relationships/slide" Target="slide6.xml"/><Relationship Id="rId14" Type="http://schemas.openxmlformats.org/officeDocument/2006/relationships/slide" Target="slide7.xml"/><Relationship Id="rId15" Type="http://schemas.openxmlformats.org/officeDocument/2006/relationships/hyperlink" Target="http://opinion-publica.wikispaces.com/Formaci&#243;n+de+la+Opini&#243;n+P&#250;blica" TargetMode="External"/><Relationship Id="rId16" Type="http://schemas.openxmlformats.org/officeDocument/2006/relationships/hyperlink" Target="http://www.tvolucion.com/noticieros/noticias-y-reportajes/042113/pena-nieto-lluvia-evento-extraordinario" TargetMode="External"/><Relationship Id="rId17" Type="http://schemas.openxmlformats.org/officeDocument/2006/relationships/hyperlink" Target="http://www2.esmas.com/noticierostelevisa/mexico/df/093373/ebrard-y-pena-nieto-hecho-extraordinario-lluvias-del-domingo" TargetMode="External"/><Relationship Id="rId18" Type="http://schemas.openxmlformats.org/officeDocument/2006/relationships/hyperlink" Target="http://www.tvolucion.com/noticieros/noticiero-con-joaquin-lopez-doriga/042109/lopez-doriga-07-septiembre-2009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7.xml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7.xml"/><Relationship Id="rId14" Type="http://schemas.openxmlformats.org/officeDocument/2006/relationships/image" Target="../media/image10.png"/><Relationship Id="rId15" Type="http://schemas.openxmlformats.org/officeDocument/2006/relationships/hyperlink" Target="http://www2.esmas.com/noticierostelevisa/mexico/df/093373/ebrard-y-pena-nieto-hecho-extraordinario-lluvias-del-domingo" TargetMode="External"/><Relationship Id="rId16" Type="http://schemas.openxmlformats.org/officeDocument/2006/relationships/hyperlink" Target="http://www.tvolucion.com/noticieros/noticiero-con-joaquin-lopez-doriga/042109/lopez-doriga-07-septiembre-2009" TargetMode="External"/><Relationship Id="rId17" Type="http://schemas.openxmlformats.org/officeDocument/2006/relationships/hyperlink" Target="http://www.tvolucion.com/noticieros/noticias-y-reportajes/042113/pena-nieto-lluvia-evento-extraordinario" TargetMode="External"/><Relationship Id="rId18" Type="http://schemas.openxmlformats.org/officeDocument/2006/relationships/hyperlink" Target="http://www.youtube.com/watch?v=y8D92in5SU0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"/>
          <p:cNvSpPr/>
          <p:nvPr/>
        </p:nvSpPr>
        <p:spPr>
          <a:xfrm>
            <a:off x="0" y="0"/>
            <a:ext cx="2438280" cy="685800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380880" y="133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Lámina del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2286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Formación de la 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380880" y="1325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" action="ppaction://hlinksldjump"/>
              </a:rPr>
              <a:t>Int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380880" y="1665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2" action="ppaction://hlinksldjump"/>
              </a:rPr>
              <a:t>T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7"/>
          <p:cNvSpPr/>
          <p:nvPr/>
        </p:nvSpPr>
        <p:spPr>
          <a:xfrm>
            <a:off x="380880" y="2011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3" action="ppaction://hlinksldjump"/>
              </a:rPr>
              <a:t>Pro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380880" y="23511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4" action="ppaction://hlinksldjump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380880" y="2697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5" action="ppaction://hlinksldjump"/>
              </a:rPr>
              <a:t>Conclu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11"/>
          <p:cNvSpPr/>
          <p:nvPr/>
        </p:nvSpPr>
        <p:spPr>
          <a:xfrm>
            <a:off x="380880" y="63244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6" action="ppaction://hlinksldjump"/>
              </a:rPr>
              <a:t>Créd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12"/>
          <p:cNvSpPr/>
          <p:nvPr/>
        </p:nvSpPr>
        <p:spPr>
          <a:xfrm>
            <a:off x="380880" y="37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Lámina del Maestro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14"/>
          <p:cNvSpPr/>
          <p:nvPr/>
        </p:nvSpPr>
        <p:spPr>
          <a:xfrm>
            <a:off x="2819520" y="92376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ebQuest  1er pa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2819520" y="63244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asado en un formato extraído de </a:t>
            </a:r>
            <a:r>
              <a:rPr b="0" lang="en-US" sz="1400" spc="-1" strike="noStrike" u="sng">
                <a:solidFill>
                  <a:srgbClr val="0c0c0c"/>
                </a:solidFill>
                <a:uFillTx/>
                <a:latin typeface="Calibri"/>
                <a:hlinkClick r:id="rId7"/>
              </a:rPr>
              <a:t>The WebQuest P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Title 18" descr=""/>
          <p:cNvPicPr/>
          <p:nvPr/>
        </p:nvPicPr>
        <p:blipFill>
          <a:blip r:embed="rId8"/>
          <a:stretch/>
        </p:blipFill>
        <p:spPr>
          <a:xfrm>
            <a:off x="2664000" y="-6480"/>
            <a:ext cx="6486480" cy="8542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3"/>
          <p:cNvSpPr/>
          <p:nvPr/>
        </p:nvSpPr>
        <p:spPr>
          <a:xfrm>
            <a:off x="8001000" y="5996160"/>
            <a:ext cx="1143000" cy="57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Century Gothic"/>
              </a:rPr>
              <a:t>Fuente de la Imagen: 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c0c0c"/>
                </a:solidFill>
                <a:uFillTx/>
                <a:latin typeface="Century Gothic"/>
                <a:hlinkClick r:id="rId9"/>
              </a:rPr>
              <a:t>The Rag blo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20" descr=""/>
          <p:cNvPicPr/>
          <p:nvPr/>
        </p:nvPicPr>
        <p:blipFill>
          <a:blip r:embed="rId10"/>
          <a:stretch/>
        </p:blipFill>
        <p:spPr>
          <a:xfrm>
            <a:off x="3733920" y="1676520"/>
            <a:ext cx="4308480" cy="3889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0" y="0"/>
            <a:ext cx="2438280" cy="685800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380880" y="133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Lámina del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2286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Formación de la 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380880" y="1325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" action="ppaction://hlinksldjump"/>
              </a:rPr>
              <a:t>Int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6"/>
          <p:cNvSpPr/>
          <p:nvPr/>
        </p:nvSpPr>
        <p:spPr>
          <a:xfrm>
            <a:off x="380880" y="1665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2" action="ppaction://hlinksldjump"/>
              </a:rPr>
              <a:t>T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7"/>
          <p:cNvSpPr/>
          <p:nvPr/>
        </p:nvSpPr>
        <p:spPr>
          <a:xfrm>
            <a:off x="380880" y="2011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3" action="ppaction://hlinksldjump"/>
              </a:rPr>
              <a:t>Pro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8"/>
          <p:cNvSpPr/>
          <p:nvPr/>
        </p:nvSpPr>
        <p:spPr>
          <a:xfrm>
            <a:off x="380880" y="23511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4" action="ppaction://hlinksldjump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9"/>
          <p:cNvSpPr/>
          <p:nvPr/>
        </p:nvSpPr>
        <p:spPr>
          <a:xfrm>
            <a:off x="380880" y="2697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5" action="ppaction://hlinksldjump"/>
              </a:rPr>
              <a:t>Conclu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11"/>
          <p:cNvSpPr/>
          <p:nvPr/>
        </p:nvSpPr>
        <p:spPr>
          <a:xfrm>
            <a:off x="380880" y="63244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6" action="ppaction://hlinksldjump"/>
              </a:rPr>
              <a:t>Créd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12"/>
          <p:cNvSpPr/>
          <p:nvPr/>
        </p:nvSpPr>
        <p:spPr>
          <a:xfrm>
            <a:off x="380880" y="37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Lámina del Maestro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14"/>
          <p:cNvSpPr/>
          <p:nvPr/>
        </p:nvSpPr>
        <p:spPr>
          <a:xfrm>
            <a:off x="2819520" y="762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ebQuest  1er pa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Title 18" descr=""/>
          <p:cNvPicPr/>
          <p:nvPr/>
        </p:nvPicPr>
        <p:blipFill>
          <a:blip r:embed="rId7"/>
          <a:stretch/>
        </p:blipFill>
        <p:spPr>
          <a:xfrm>
            <a:off x="2664000" y="-6480"/>
            <a:ext cx="6486480" cy="85428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4"/>
          <p:cNvSpPr/>
          <p:nvPr/>
        </p:nvSpPr>
        <p:spPr>
          <a:xfrm>
            <a:off x="2895480" y="1600200"/>
            <a:ext cx="586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c0c0"/>
                </a:solidFill>
                <a:latin typeface="Lucida Bright"/>
              </a:rPr>
              <a:t>“</a:t>
            </a:r>
            <a:r>
              <a:rPr b="0" lang="es-ES" sz="1800" spc="-1" strike="noStrike">
                <a:solidFill>
                  <a:srgbClr val="c0c0c0"/>
                </a:solidFill>
                <a:latin typeface="Lucida Bright"/>
              </a:rPr>
              <a:t>La opinión pública necesita de tal forma los medios de comunicación para su expresión y conocimiento que, hoy día, es prácticamente imposible que exista sin ellos. El problema radica en saber si se trata de una mediación neutra, fiel, “reflejo de la opinión pública”, o si la mediación se convierte en mediatización, reflejo de los intereses de todas aquellas instancias que se ocultan detrás y que se convierten en “creadores” de la opinión pública. Los medios como tal no manipulan ni crean la opinión pública, sino aquellos actores que actúan a través de ellos: líderes, grupos de presión, élites políticas y poder en general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17 Rectángulo"/>
          <p:cNvSpPr/>
          <p:nvPr/>
        </p:nvSpPr>
        <p:spPr>
          <a:xfrm>
            <a:off x="2895480" y="56386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 Beatriz Mañas, La Formación de la Opinión Pública: Encuestas y Medios de Comun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8"/>
          <a:stretch/>
        </p:blipFill>
        <p:spPr>
          <a:xfrm>
            <a:off x="682560" y="3730680"/>
            <a:ext cx="2017800" cy="2560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0" y="0"/>
            <a:ext cx="2438280" cy="685800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380880" y="133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Lámina del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3"/>
          <p:cNvSpPr/>
          <p:nvPr/>
        </p:nvSpPr>
        <p:spPr>
          <a:xfrm>
            <a:off x="2286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Formación de la 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380880" y="1325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" action="ppaction://hlinksldjump"/>
              </a:rPr>
              <a:t>Int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380880" y="1665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2" action="ppaction://hlinksldjump"/>
              </a:rPr>
              <a:t>T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Box 7"/>
          <p:cNvSpPr/>
          <p:nvPr/>
        </p:nvSpPr>
        <p:spPr>
          <a:xfrm>
            <a:off x="380880" y="2011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3" action="ppaction://hlinksldjump"/>
              </a:rPr>
              <a:t>Pro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380880" y="23511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4" action="ppaction://hlinksldjump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380880" y="2697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5" action="ppaction://hlinksldjump"/>
              </a:rPr>
              <a:t>Conclu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11"/>
          <p:cNvSpPr/>
          <p:nvPr/>
        </p:nvSpPr>
        <p:spPr>
          <a:xfrm>
            <a:off x="380880" y="63244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6" action="ppaction://hlinksldjump"/>
              </a:rPr>
              <a:t>Créd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12"/>
          <p:cNvSpPr/>
          <p:nvPr/>
        </p:nvSpPr>
        <p:spPr>
          <a:xfrm>
            <a:off x="380880" y="37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Lámina del Maestro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14"/>
          <p:cNvSpPr/>
          <p:nvPr/>
        </p:nvSpPr>
        <p:spPr>
          <a:xfrm>
            <a:off x="2819520" y="5335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ebQuest  1er pa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Title 18" descr=""/>
          <p:cNvPicPr/>
          <p:nvPr/>
        </p:nvPicPr>
        <p:blipFill>
          <a:blip r:embed="rId7"/>
          <a:stretch/>
        </p:blipFill>
        <p:spPr>
          <a:xfrm>
            <a:off x="2664000" y="-6480"/>
            <a:ext cx="6486480" cy="854280"/>
          </a:xfrm>
          <a:prstGeom prst="rect">
            <a:avLst/>
          </a:prstGeom>
          <a:ln w="0">
            <a:noFill/>
          </a:ln>
        </p:spPr>
      </p:pic>
      <p:sp>
        <p:nvSpPr>
          <p:cNvPr id="350" name="18 Rectángulo"/>
          <p:cNvSpPr/>
          <p:nvPr/>
        </p:nvSpPr>
        <p:spPr>
          <a:xfrm>
            <a:off x="2819520" y="990720"/>
            <a:ext cx="6095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Leer una nota y encontrar la forma en que se difundió por un medio de comunicació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Ver tres videos y encontrar qué dice el medio respecto a un tema noticios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scribir una conclusión al respecto tomando como referencia la cl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5" descr="http://farm3.static.flickr.com/2284/2233711593_c43d8101f3_o.jpg"/>
          <p:cNvPicPr/>
          <p:nvPr/>
        </p:nvPicPr>
        <p:blipFill>
          <a:blip r:embed="rId8"/>
          <a:stretch/>
        </p:blipFill>
        <p:spPr>
          <a:xfrm>
            <a:off x="3352680" y="4038480"/>
            <a:ext cx="3353040" cy="24066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5"/>
          <p:cNvSpPr/>
          <p:nvPr/>
        </p:nvSpPr>
        <p:spPr>
          <a:xfrm>
            <a:off x="0" y="5029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61616"/>
                </a:solidFill>
                <a:latin typeface="Arial"/>
              </a:rPr>
              <a:t>The City Project, Flickr.co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61616"/>
                </a:solidFill>
                <a:latin typeface="Arial"/>
              </a:rPr>
              <a:t>Civil rights activists free at the beach before the passage of the Civil Rights Act of 19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3" name="22 Conector recto de flecha"/>
          <p:cNvCxnSpPr/>
          <p:nvPr/>
        </p:nvCxnSpPr>
        <p:spPr>
          <a:xfrm>
            <a:off x="2362320" y="5334120"/>
            <a:ext cx="838800" cy="216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2"/>
          <p:cNvSpPr/>
          <p:nvPr/>
        </p:nvSpPr>
        <p:spPr>
          <a:xfrm>
            <a:off x="380880" y="133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dent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380880" y="9907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" action="ppaction://hlinksldjump"/>
              </a:rPr>
              <a:t>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5"/>
          <p:cNvSpPr/>
          <p:nvPr/>
        </p:nvSpPr>
        <p:spPr>
          <a:xfrm>
            <a:off x="380880" y="1325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2" action="ppaction://hlinksldjump"/>
              </a:rPr>
              <a:t>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6"/>
          <p:cNvSpPr/>
          <p:nvPr/>
        </p:nvSpPr>
        <p:spPr>
          <a:xfrm>
            <a:off x="380880" y="1665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3" action="ppaction://hlinksldjump"/>
              </a:rPr>
              <a:t>Ta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380880" y="2011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380880" y="23511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4" action="ppaction://hlinksldjump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9"/>
          <p:cNvSpPr/>
          <p:nvPr/>
        </p:nvSpPr>
        <p:spPr>
          <a:xfrm>
            <a:off x="380880" y="2697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5" action="ppaction://hlinksldjump"/>
              </a:rPr>
              <a:t>Concl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11"/>
          <p:cNvSpPr/>
          <p:nvPr/>
        </p:nvSpPr>
        <p:spPr>
          <a:xfrm>
            <a:off x="380880" y="63244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6" action="ppaction://hlinksldjump"/>
              </a:rPr>
              <a:t>Cred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380880" y="37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 u="sng">
                <a:solidFill>
                  <a:srgbClr val="0c0c0c"/>
                </a:solidFill>
                <a:uFillTx/>
                <a:latin typeface="Calibri"/>
                <a:hlinkClick r:id="rId7" action="ppaction://hlinksldjump"/>
              </a:rPr>
              <a:t>Teacher Page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Title 13" descr=""/>
          <p:cNvPicPr/>
          <p:nvPr/>
        </p:nvPicPr>
        <p:blipFill>
          <a:blip r:embed="rId8"/>
          <a:stretch/>
        </p:blipFill>
        <p:spPr>
          <a:xfrm>
            <a:off x="5022720" y="-6480"/>
            <a:ext cx="4127760" cy="115884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0" y="0"/>
            <a:ext cx="2438280" cy="685800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2"/>
          <p:cNvSpPr/>
          <p:nvPr/>
        </p:nvSpPr>
        <p:spPr>
          <a:xfrm>
            <a:off x="380880" y="133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Lámina del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12"/>
          <p:cNvSpPr/>
          <p:nvPr/>
        </p:nvSpPr>
        <p:spPr>
          <a:xfrm>
            <a:off x="533520" y="5302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Lámina del Maestro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2286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Formación de la 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533520" y="14778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9" action="ppaction://hlinksldjump"/>
              </a:rPr>
              <a:t>Int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533520" y="18176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0" action="ppaction://hlinksldjump"/>
              </a:rPr>
              <a:t>T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7"/>
          <p:cNvSpPr/>
          <p:nvPr/>
        </p:nvSpPr>
        <p:spPr>
          <a:xfrm>
            <a:off x="533520" y="2163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1" action="ppaction://hlinksldjump"/>
              </a:rPr>
              <a:t>Pro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8"/>
          <p:cNvSpPr/>
          <p:nvPr/>
        </p:nvSpPr>
        <p:spPr>
          <a:xfrm>
            <a:off x="533520" y="25034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2" action="ppaction://hlinksldjump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9"/>
          <p:cNvSpPr/>
          <p:nvPr/>
        </p:nvSpPr>
        <p:spPr>
          <a:xfrm>
            <a:off x="533520" y="28494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3" action="ppaction://hlinksldjump"/>
              </a:rPr>
              <a:t>Conclu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11"/>
          <p:cNvSpPr/>
          <p:nvPr/>
        </p:nvSpPr>
        <p:spPr>
          <a:xfrm>
            <a:off x="533520" y="6477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4" action="ppaction://hlinksldjump"/>
              </a:rPr>
              <a:t>Créd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34 CuadroTexto"/>
          <p:cNvSpPr/>
          <p:nvPr/>
        </p:nvSpPr>
        <p:spPr>
          <a:xfrm>
            <a:off x="3574440" y="5486400"/>
            <a:ext cx="4719240" cy="7333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e los videos en el </a:t>
            </a:r>
            <a:r>
              <a:rPr b="0" lang="es-ES" sz="1400" spc="-1" strike="noStrike" u="sng">
                <a:solidFill>
                  <a:srgbClr val="0c0c0c"/>
                </a:solidFill>
                <a:uFillTx/>
                <a:latin typeface="Arial"/>
                <a:hlinkClick r:id="rId15"/>
              </a:rPr>
              <a:t>Wiki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y señala las diferencia qu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cuentres entre los anuncios de Peña Nie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y Ebrard que difunde Televisa (duración,imágenes, tex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35 CuadroTexto"/>
          <p:cNvSpPr/>
          <p:nvPr/>
        </p:nvSpPr>
        <p:spPr>
          <a:xfrm>
            <a:off x="2860200" y="914400"/>
            <a:ext cx="4144320" cy="1310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isita </a:t>
            </a:r>
            <a:r>
              <a:rPr b="0" lang="es-ES" sz="1600" spc="-1" strike="noStrike" u="sng">
                <a:solidFill>
                  <a:srgbClr val="0c0c0c"/>
                </a:solidFill>
                <a:uFillTx/>
                <a:latin typeface="Arial"/>
                <a:hlinkClick r:id="rId16"/>
              </a:rPr>
              <a:t>este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sitio y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Resume brevemente lo que dice la entrevis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Qué tono se usa con el entrevist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Qué espacio se otorga al entrevist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Qué busca mediatizar esta noticia en los televiden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37 CuadroTexto"/>
          <p:cNvSpPr/>
          <p:nvPr/>
        </p:nvSpPr>
        <p:spPr>
          <a:xfrm>
            <a:off x="3392280" y="3733920"/>
            <a:ext cx="4461480" cy="16758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isita </a:t>
            </a:r>
            <a:r>
              <a:rPr b="0" lang="es-ES" sz="1600" spc="-1" strike="noStrike" u="sng">
                <a:solidFill>
                  <a:srgbClr val="0c0c0c"/>
                </a:solidFill>
                <a:uFillTx/>
                <a:latin typeface="Arial"/>
                <a:hlinkClick r:id="rId17"/>
              </a:rPr>
              <a:t>este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sitio y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lee y resume brevemente lo que dice la no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Observa cómo está acomodada visualmente la no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Qué espacio se otorga a las personas que hace referencia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Cuál es el tono que se usa para referirse a uno y a otr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Qué busca mediatizar en el lector la noticia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38 CuadroTexto"/>
          <p:cNvSpPr/>
          <p:nvPr/>
        </p:nvSpPr>
        <p:spPr>
          <a:xfrm>
            <a:off x="3089520" y="2362320"/>
            <a:ext cx="4193280" cy="1310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isita </a:t>
            </a:r>
            <a:r>
              <a:rPr b="0" lang="es-ES" sz="1600" spc="-1" strike="noStrike" u="sng">
                <a:solidFill>
                  <a:srgbClr val="0c0c0c"/>
                </a:solidFill>
                <a:uFillTx/>
                <a:latin typeface="Arial"/>
                <a:hlinkClick r:id="rId18"/>
              </a:rPr>
              <a:t>este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sitio y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Resume lo que dice la entrevista (a partir del min  24:2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Qué tono se usa con el entrevist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Qué espacio se otorga al entrevist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Qué busca mediatizar esta noticia en los televiden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39 CuadroTexto"/>
          <p:cNvSpPr/>
          <p:nvPr/>
        </p:nvSpPr>
        <p:spPr>
          <a:xfrm>
            <a:off x="4724280" y="6248520"/>
            <a:ext cx="3886200" cy="459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scribe una breve conclusión de lo aprendido sobre la formación de la 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"/>
          <p:cNvSpPr/>
          <p:nvPr/>
        </p:nvSpPr>
        <p:spPr>
          <a:xfrm>
            <a:off x="0" y="0"/>
            <a:ext cx="2438280" cy="685800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362320" y="685800"/>
          <a:ext cx="6781680" cy="6172200"/>
        </p:xfrm>
        <a:graphic>
          <a:graphicData uri="http://schemas.openxmlformats.org/drawingml/2006/table">
            <a:tbl>
              <a:tblPr/>
              <a:tblGrid>
                <a:gridCol w="1614240"/>
                <a:gridCol w="2584440"/>
                <a:gridCol w="2583000"/>
              </a:tblGrid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tio 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umen de la not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cripción del tono que se utiliz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ñalaiento espacio al entrevistad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cripción de lo que se busca mediatiza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lor 2 punt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tio 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umen de la not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cripción del tono que se utiliz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ñalaiento espacio al entrevistad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cripción de lo que se busca mediatiza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lor 2 punt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tio 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umen de la not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cripción de cómo se acomoda la not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cripción del tono que se utiliz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ñalaiento espacio a entrevistad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cripción de lo que se busca mediatiza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lor 2 punt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tio 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umen de cada vide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ferencias encontrada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lor 2 punt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clusió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cribir  el análisis realizado en un Powepoint, junto  con una conclusión (al final) que señale los puntos aprendidos , explicados brevemente. Subir al Wiki el archivo como lo señale el maestro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lor 2 punt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1" name="Title 14" descr=""/>
          <p:cNvPicPr/>
          <p:nvPr/>
        </p:nvPicPr>
        <p:blipFill>
          <a:blip r:embed="rId1"/>
          <a:stretch/>
        </p:blipFill>
        <p:spPr>
          <a:xfrm>
            <a:off x="5175360" y="-6480"/>
            <a:ext cx="397512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TextBox 2"/>
          <p:cNvSpPr/>
          <p:nvPr/>
        </p:nvSpPr>
        <p:spPr>
          <a:xfrm>
            <a:off x="380880" y="133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Lámina del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380880" y="37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Lámina del Maestro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2286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Formación de la 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533520" y="14778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2" action="ppaction://hlinksldjump"/>
              </a:rPr>
              <a:t>Int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6"/>
          <p:cNvSpPr/>
          <p:nvPr/>
        </p:nvSpPr>
        <p:spPr>
          <a:xfrm>
            <a:off x="533520" y="18176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3" action="ppaction://hlinksldjump"/>
              </a:rPr>
              <a:t>T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3520" y="2163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4" action="ppaction://hlinksldjump"/>
              </a:rPr>
              <a:t>Pro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533520" y="25034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5" action="ppaction://hlinksldjump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9"/>
          <p:cNvSpPr/>
          <p:nvPr/>
        </p:nvSpPr>
        <p:spPr>
          <a:xfrm>
            <a:off x="533520" y="28494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6" action="ppaction://hlinksldjump"/>
              </a:rPr>
              <a:t>Conclu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11"/>
          <p:cNvSpPr/>
          <p:nvPr/>
        </p:nvSpPr>
        <p:spPr>
          <a:xfrm>
            <a:off x="533520" y="6477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7" action="ppaction://hlinksldjump"/>
              </a:rPr>
              <a:t>Créd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2"/>
          <p:cNvSpPr/>
          <p:nvPr/>
        </p:nvSpPr>
        <p:spPr>
          <a:xfrm>
            <a:off x="380880" y="133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dent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Box 3"/>
          <p:cNvSpPr/>
          <p:nvPr/>
        </p:nvSpPr>
        <p:spPr>
          <a:xfrm>
            <a:off x="380880" y="9907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" action="ppaction://hlinksldjump"/>
              </a:rPr>
              <a:t>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5"/>
          <p:cNvSpPr/>
          <p:nvPr/>
        </p:nvSpPr>
        <p:spPr>
          <a:xfrm>
            <a:off x="380880" y="1325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2" action="ppaction://hlinksldjump"/>
              </a:rPr>
              <a:t>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"/>
          <p:cNvSpPr/>
          <p:nvPr/>
        </p:nvSpPr>
        <p:spPr>
          <a:xfrm>
            <a:off x="380880" y="1665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3" action="ppaction://hlinksldjump"/>
              </a:rPr>
              <a:t>Ta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7"/>
          <p:cNvSpPr/>
          <p:nvPr/>
        </p:nvSpPr>
        <p:spPr>
          <a:xfrm>
            <a:off x="380880" y="2011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8"/>
          <p:cNvSpPr/>
          <p:nvPr/>
        </p:nvSpPr>
        <p:spPr>
          <a:xfrm>
            <a:off x="380880" y="23511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4" action="ppaction://hlinksldjump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9"/>
          <p:cNvSpPr/>
          <p:nvPr/>
        </p:nvSpPr>
        <p:spPr>
          <a:xfrm>
            <a:off x="380880" y="2697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5" action="ppaction://hlinksldjump"/>
              </a:rPr>
              <a:t>Concl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1"/>
          <p:cNvSpPr/>
          <p:nvPr/>
        </p:nvSpPr>
        <p:spPr>
          <a:xfrm>
            <a:off x="380880" y="63244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6" action="ppaction://hlinksldjump"/>
              </a:rPr>
              <a:t>Cred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2"/>
          <p:cNvSpPr/>
          <p:nvPr/>
        </p:nvSpPr>
        <p:spPr>
          <a:xfrm>
            <a:off x="380880" y="37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 u="sng">
                <a:solidFill>
                  <a:srgbClr val="0c0c0c"/>
                </a:solidFill>
                <a:uFillTx/>
                <a:latin typeface="Calibri"/>
                <a:hlinkClick r:id="rId7" action="ppaction://hlinksldjump"/>
              </a:rPr>
              <a:t>Teacher Page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0" y="0"/>
            <a:ext cx="2438280" cy="685800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380880" y="133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Lámina del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12"/>
          <p:cNvSpPr/>
          <p:nvPr/>
        </p:nvSpPr>
        <p:spPr>
          <a:xfrm>
            <a:off x="533520" y="5302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Lámina del Maestro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2286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Formación de la 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533520" y="14778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8" action="ppaction://hlinksldjump"/>
              </a:rPr>
              <a:t>Int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533520" y="18176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9" action="ppaction://hlinksldjump"/>
              </a:rPr>
              <a:t>T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533520" y="2163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0" action="ppaction://hlinksldjump"/>
              </a:rPr>
              <a:t>Pro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8"/>
          <p:cNvSpPr/>
          <p:nvPr/>
        </p:nvSpPr>
        <p:spPr>
          <a:xfrm>
            <a:off x="533520" y="25034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1" action="ppaction://hlinksldjump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9"/>
          <p:cNvSpPr/>
          <p:nvPr/>
        </p:nvSpPr>
        <p:spPr>
          <a:xfrm>
            <a:off x="533520" y="28494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2" action="ppaction://hlinksldjump"/>
              </a:rPr>
              <a:t>Conclu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11"/>
          <p:cNvSpPr/>
          <p:nvPr/>
        </p:nvSpPr>
        <p:spPr>
          <a:xfrm>
            <a:off x="533520" y="6477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3" action="ppaction://hlinksldjump"/>
              </a:rPr>
              <a:t>Créd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Title 13" descr=""/>
          <p:cNvPicPr/>
          <p:nvPr/>
        </p:nvPicPr>
        <p:blipFill>
          <a:blip r:embed="rId14"/>
          <a:stretch/>
        </p:blipFill>
        <p:spPr>
          <a:xfrm>
            <a:off x="5022720" y="-6480"/>
            <a:ext cx="412776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14"/>
          <p:cNvSpPr/>
          <p:nvPr/>
        </p:nvSpPr>
        <p:spPr>
          <a:xfrm>
            <a:off x="2819520" y="1447920"/>
            <a:ext cx="586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 terminar de hacer este Webquest,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alumnos descubrirán cómo se forma la opinión pública sobre casos que proporcionará el profesor y expondrán sus conclusiones en cl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2"/>
          <p:cNvSpPr/>
          <p:nvPr/>
        </p:nvSpPr>
        <p:spPr>
          <a:xfrm>
            <a:off x="380880" y="133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dent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3"/>
          <p:cNvSpPr/>
          <p:nvPr/>
        </p:nvSpPr>
        <p:spPr>
          <a:xfrm>
            <a:off x="380880" y="9907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" action="ppaction://hlinksldjump"/>
              </a:rPr>
              <a:t>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5"/>
          <p:cNvSpPr/>
          <p:nvPr/>
        </p:nvSpPr>
        <p:spPr>
          <a:xfrm>
            <a:off x="380880" y="1325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2" action="ppaction://hlinksldjump"/>
              </a:rPr>
              <a:t>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6"/>
          <p:cNvSpPr/>
          <p:nvPr/>
        </p:nvSpPr>
        <p:spPr>
          <a:xfrm>
            <a:off x="380880" y="1665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3" action="ppaction://hlinksldjump"/>
              </a:rPr>
              <a:t>Ta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380880" y="2011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380880" y="23511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4" action="ppaction://hlinksldjump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9"/>
          <p:cNvSpPr/>
          <p:nvPr/>
        </p:nvSpPr>
        <p:spPr>
          <a:xfrm>
            <a:off x="380880" y="2697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5" action="ppaction://hlinksldjump"/>
              </a:rPr>
              <a:t>Concl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11"/>
          <p:cNvSpPr/>
          <p:nvPr/>
        </p:nvSpPr>
        <p:spPr>
          <a:xfrm>
            <a:off x="380880" y="63244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6" action="ppaction://hlinksldjump"/>
              </a:rPr>
              <a:t>Cred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Box 12"/>
          <p:cNvSpPr/>
          <p:nvPr/>
        </p:nvSpPr>
        <p:spPr>
          <a:xfrm>
            <a:off x="380880" y="37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 u="sng">
                <a:solidFill>
                  <a:srgbClr val="0c0c0c"/>
                </a:solidFill>
                <a:uFillTx/>
                <a:latin typeface="Calibri"/>
                <a:hlinkClick r:id="rId7" action="ppaction://hlinksldjump"/>
              </a:rPr>
              <a:t>Teacher Page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0" y="0"/>
            <a:ext cx="2438280" cy="685800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2"/>
          <p:cNvSpPr/>
          <p:nvPr/>
        </p:nvSpPr>
        <p:spPr>
          <a:xfrm>
            <a:off x="380880" y="133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Lámina del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12"/>
          <p:cNvSpPr/>
          <p:nvPr/>
        </p:nvSpPr>
        <p:spPr>
          <a:xfrm>
            <a:off x="533520" y="5302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Lámina del Maestro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Box 3"/>
          <p:cNvSpPr/>
          <p:nvPr/>
        </p:nvSpPr>
        <p:spPr>
          <a:xfrm>
            <a:off x="2286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Formación de la 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5"/>
          <p:cNvSpPr/>
          <p:nvPr/>
        </p:nvSpPr>
        <p:spPr>
          <a:xfrm>
            <a:off x="533520" y="14778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8" action="ppaction://hlinksldjump"/>
              </a:rPr>
              <a:t>Int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6"/>
          <p:cNvSpPr/>
          <p:nvPr/>
        </p:nvSpPr>
        <p:spPr>
          <a:xfrm>
            <a:off x="533520" y="18176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9" action="ppaction://hlinksldjump"/>
              </a:rPr>
              <a:t>T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7"/>
          <p:cNvSpPr/>
          <p:nvPr/>
        </p:nvSpPr>
        <p:spPr>
          <a:xfrm>
            <a:off x="533520" y="2163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0" action="ppaction://hlinksldjump"/>
              </a:rPr>
              <a:t>Pro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8"/>
          <p:cNvSpPr/>
          <p:nvPr/>
        </p:nvSpPr>
        <p:spPr>
          <a:xfrm>
            <a:off x="533520" y="25034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1" action="ppaction://hlinksldjump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9"/>
          <p:cNvSpPr/>
          <p:nvPr/>
        </p:nvSpPr>
        <p:spPr>
          <a:xfrm>
            <a:off x="533520" y="28494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2" action="ppaction://hlinksldjump"/>
              </a:rPr>
              <a:t>Conclu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11"/>
          <p:cNvSpPr/>
          <p:nvPr/>
        </p:nvSpPr>
        <p:spPr>
          <a:xfrm>
            <a:off x="533520" y="6477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3" action="ppaction://hlinksldjump"/>
              </a:rPr>
              <a:t>Créd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Title 13" descr=""/>
          <p:cNvPicPr/>
          <p:nvPr/>
        </p:nvPicPr>
        <p:blipFill>
          <a:blip r:embed="rId14"/>
          <a:stretch/>
        </p:blipFill>
        <p:spPr>
          <a:xfrm>
            <a:off x="5022720" y="225360"/>
            <a:ext cx="4127760" cy="1152720"/>
          </a:xfrm>
          <a:prstGeom prst="rect">
            <a:avLst/>
          </a:prstGeom>
          <a:ln w="0">
            <a:noFill/>
          </a:ln>
        </p:spPr>
      </p:pic>
      <p:sp>
        <p:nvSpPr>
          <p:cNvPr id="432" name="TextBox 15"/>
          <p:cNvSpPr/>
          <p:nvPr/>
        </p:nvSpPr>
        <p:spPr>
          <a:xfrm>
            <a:off x="3429000" y="1905120"/>
            <a:ext cx="4343400" cy="300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Century Gothic"/>
              </a:rPr>
              <a:t>Noticieros Televis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c0c0c"/>
                </a:solidFill>
                <a:uFillTx/>
                <a:latin typeface="Century Gothic"/>
                <a:hlinkClick r:id="rId15"/>
              </a:rPr>
              <a:t>http://www2.esmas.com/noticierostelevisa/mexico/df/093373/ebrard-y-pena-nieto-hecho-extraordinario-lluvias-del-domin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c0c0c"/>
                </a:solidFill>
                <a:uFillTx/>
                <a:latin typeface="Century Gothic"/>
                <a:hlinkClick r:id="rId16"/>
              </a:rPr>
              <a:t>http://www.tvolucion.com/noticieros/noticiero-con-joaquin-lopez-doriga/042109/lopez-doriga-07-septiembre-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c0c0c"/>
                </a:solidFill>
                <a:uFillTx/>
                <a:latin typeface="Century Gothic"/>
                <a:hlinkClick r:id="rId17"/>
              </a:rPr>
              <a:t>http://www.tvolucion.com/noticieros/noticias-y-reportajes/042113/pena-nieto-lluvia-evento-extraordinar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anal de Youtube de tsot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c0c0c"/>
                </a:solidFill>
                <a:uFillTx/>
                <a:latin typeface="Century Gothic"/>
                <a:hlinkClick r:id="rId18"/>
              </a:rPr>
              <a:t>http://www.youtube.com/watch?v=y8D92in5SU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al de Youtube de Luis 25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http://www.youtube.com/watch?v=SaMJ83_HM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16"/>
          <p:cNvSpPr/>
          <p:nvPr/>
        </p:nvSpPr>
        <p:spPr>
          <a:xfrm>
            <a:off x="3429000" y="55627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iseño de la presentación Lindsey Gillet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2"/>
          <p:cNvSpPr/>
          <p:nvPr/>
        </p:nvSpPr>
        <p:spPr>
          <a:xfrm>
            <a:off x="380880" y="133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dent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Box 3"/>
          <p:cNvSpPr/>
          <p:nvPr/>
        </p:nvSpPr>
        <p:spPr>
          <a:xfrm>
            <a:off x="380880" y="9907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" action="ppaction://hlinksldjump"/>
              </a:rPr>
              <a:t>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380880" y="1325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2" action="ppaction://hlinksldjump"/>
              </a:rPr>
              <a:t>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6"/>
          <p:cNvSpPr/>
          <p:nvPr/>
        </p:nvSpPr>
        <p:spPr>
          <a:xfrm>
            <a:off x="380880" y="1665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a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Box 7"/>
          <p:cNvSpPr/>
          <p:nvPr/>
        </p:nvSpPr>
        <p:spPr>
          <a:xfrm>
            <a:off x="380880" y="2011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8"/>
          <p:cNvSpPr/>
          <p:nvPr/>
        </p:nvSpPr>
        <p:spPr>
          <a:xfrm>
            <a:off x="380880" y="23511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9"/>
          <p:cNvSpPr/>
          <p:nvPr/>
        </p:nvSpPr>
        <p:spPr>
          <a:xfrm>
            <a:off x="380880" y="2697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11"/>
          <p:cNvSpPr/>
          <p:nvPr/>
        </p:nvSpPr>
        <p:spPr>
          <a:xfrm>
            <a:off x="380880" y="63244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red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12"/>
          <p:cNvSpPr/>
          <p:nvPr/>
        </p:nvSpPr>
        <p:spPr>
          <a:xfrm>
            <a:off x="380880" y="37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Teacher Page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1"/>
          <p:cNvSpPr/>
          <p:nvPr/>
        </p:nvSpPr>
        <p:spPr>
          <a:xfrm>
            <a:off x="0" y="0"/>
            <a:ext cx="2438280" cy="685800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2"/>
          <p:cNvSpPr/>
          <p:nvPr/>
        </p:nvSpPr>
        <p:spPr>
          <a:xfrm>
            <a:off x="380880" y="133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Lámina del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12"/>
          <p:cNvSpPr/>
          <p:nvPr/>
        </p:nvSpPr>
        <p:spPr>
          <a:xfrm>
            <a:off x="533520" y="5302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Lámina del Maestro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3"/>
          <p:cNvSpPr/>
          <p:nvPr/>
        </p:nvSpPr>
        <p:spPr>
          <a:xfrm>
            <a:off x="2286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Formación de la 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533520" y="14778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nt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6"/>
          <p:cNvSpPr/>
          <p:nvPr/>
        </p:nvSpPr>
        <p:spPr>
          <a:xfrm>
            <a:off x="533520" y="18176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Box 7"/>
          <p:cNvSpPr/>
          <p:nvPr/>
        </p:nvSpPr>
        <p:spPr>
          <a:xfrm>
            <a:off x="533520" y="2163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Pro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8"/>
          <p:cNvSpPr/>
          <p:nvPr/>
        </p:nvSpPr>
        <p:spPr>
          <a:xfrm>
            <a:off x="533520" y="25034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9"/>
          <p:cNvSpPr/>
          <p:nvPr/>
        </p:nvSpPr>
        <p:spPr>
          <a:xfrm>
            <a:off x="533520" y="28494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nclu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11"/>
          <p:cNvSpPr/>
          <p:nvPr/>
        </p:nvSpPr>
        <p:spPr>
          <a:xfrm>
            <a:off x="533520" y="6477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réd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3352680" y="259092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Formación de la opinión públic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 alumno identificará asuntos de la Esfera pública, de la esfera social y de la esfera privada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Reconocerá la forma como influye la comunicación en este proceso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Title 16" descr=""/>
          <p:cNvPicPr/>
          <p:nvPr/>
        </p:nvPicPr>
        <p:blipFill>
          <a:blip r:embed="rId3"/>
          <a:stretch/>
        </p:blipFill>
        <p:spPr>
          <a:xfrm>
            <a:off x="4035600" y="146160"/>
            <a:ext cx="51148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01:29:01Z</dcterms:created>
  <dc:creator>James</dc:creator>
  <dc:description/>
  <dc:language>en-US</dc:language>
  <cp:lastModifiedBy>UCEM2009</cp:lastModifiedBy>
  <dcterms:modified xsi:type="dcterms:W3CDTF">2009-09-08T23:23:30Z</dcterms:modified>
  <cp:revision>89</cp:revision>
  <dc:subject/>
  <dc:title>Slide 1</dc:title>
</cp:coreProperties>
</file>